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6D86-2119-47F7-A8DA-D8E3BE6828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8AAF-F1E1-4E0C-A939-9E2C319AD6F9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6F13-68A9-4A73-AD2C-096E36F1F1BB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E984-6E1A-406A-AF4B-B70540787AFC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ED96-1B1D-42FE-A467-7A0C799BF1F7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EAB1-AEEE-4FF7-A457-322BF102E71B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8AC5-FBBA-4FF6-95A0-A3F03562EB66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8BE2-C26B-418D-B78F-BF5D0F1818A0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C862-B83E-411A-B102-4CF80E43CECB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48F6-6B49-4A18-8BDE-6F7D8BA76BCA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CAC9-31F7-447C-B3FD-0F87B17005BA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3AB-448F-45DD-92CE-774C3386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8F5-A7C2-42D9-9458-2607417F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98D-021F-4E1F-B44B-D080A74F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718-6F68-4D05-BCA3-7FCB1814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B4A2-1343-40E0-8651-E1EACD15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9761-C973-4E69-8691-E50D6F17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8B9F-2F5C-47F8-AFE1-B9D7BF0F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ED3-A4A8-4199-BF87-764FC97F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9190-6EDE-4301-A889-555735C0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1930-AB71-4ADD-B72B-96DB3E80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03C3-E994-4B33-8B96-95DCC9B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DCD-C17F-4475-BB72-D8D7120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2B1B-4108-43B1-BE17-4F04575A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EF53-059E-4726-987B-42A184A5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9DB8-FCFD-4155-9B6E-FA387D33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D4AF-2D26-4E2F-83C3-E90BE641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F4C0-DD86-4927-8BAD-55D7A875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CD62-7A92-4A64-8711-63D94F59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9BC5-EB08-48BF-B6FC-90B72DB8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4B5B-8906-428D-B3B5-225D589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BACF-9114-4428-A564-19D269B7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6887-B666-49E8-A489-970F2DF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8F2-938D-4496-99FD-7124CCB0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4AF5-ED39-436F-B1C8-DDAAC29A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39D1-612C-48DA-B27A-2F220F1D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6E9E-2102-4BF1-9833-C106B3D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0CD0-F4B1-46CA-B608-0E79731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8FD1-CB5B-4F14-B49A-E20A0AA4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B631-83AB-4531-B440-70352CD8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3084-016E-414D-95F4-545AE823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CB4E-B891-446B-993B-F547DD3E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FFF4-580B-45B7-911A-E1FDA31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4489-4AD0-4AE2-9BAF-A84A06E5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67E-6483-42ED-B024-CFD323A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40FC-3EEF-4640-A475-4A98A99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0C46-4CB1-4C14-901E-31B73546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BFA7-C533-4A73-9CD8-0AAB9EC6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9512-2D65-46CD-9425-D462468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00F9-9650-4526-B0AB-4B2756CD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A509-1C53-4B99-8D36-E316035B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360C-A6E0-4743-A1F5-D115000A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2217-B9AC-4D2F-97F9-F72276B7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464D-D611-469C-B28F-597F1DE9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1BF6A-4852-43DB-9F68-774A985E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FAF-8BE3-4D6F-816E-EE8EAFFD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4514-45A5-4869-8DDE-21BDDEA3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8714-1787-4156-8417-CF38CF37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4D18A-F7A7-4247-BB64-57037A19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2112-6CDC-4EA4-9306-786129E2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5C1D2-8B44-42B5-93C6-6CD43BEF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6BB9A-4B6E-4DC0-B327-72B25F4F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71AD-9628-4EBD-B7A4-2C1BD3D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143B-8F43-48FA-B5E2-60B5CD8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A8C1C-F529-4D9F-83B7-CDD2A180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DCC4-E81D-4049-B4FF-77B40710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B9E-9259-4FD7-B392-365BB34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C1090-911F-4D22-AE32-891A99F2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C0B9D-A490-4785-8CB4-42E0C704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EDA3-93F7-46D1-B8D6-6D796B16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5F486-E10B-4744-B97E-B0CDAC5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DA97-5DCA-4F53-80D8-FD3F4F88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ABB57-335C-4F4A-A9FE-0350A211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641F-67A5-4CDC-A458-C9DEFD4A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1602F-6C16-441E-B428-86359C6C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9A47-6965-4B1E-B175-5F86586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39210-8411-4A4C-B2C9-0E5CE04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879-7319-446D-8BC6-6CDBF76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AA266-F526-43D2-B558-49E436B6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3C9E-8244-48FC-9A9F-BA5C0656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6F60-20CF-4498-B8D4-D023905F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BF2-8973-4A97-A46F-4424ABD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50C-A640-4142-8881-DB62DD6A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7299-993C-46A7-A460-844C12A3FC2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2F8D-24B7-4408-A5B9-6B8B0658D0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0E83-310C-4F55-8ED3-13C4EB9EB1C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3273-C4F1-46F6-8841-35747EFFB51E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20ED-DE5F-44C2-8B50-51A6107EAE1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1CE-6C20-4747-A050-8A6A75EB7D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C0BD-11B9-4384-B1A2-C0E5CED3FE3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A3F7-F6E6-4DC7-8F05-FC84597293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63A-F0C8-4B12-A7A6-00CC0D822A1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E597-1A65-451F-A8D0-AC8AAD092F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1704-346D-42BD-A9BB-F344ED2F5E0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946-4BDF-4CBD-905A-EE9D3BE041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61" name="Título 1"/>
          <p:cNvSpPr/>
          <p:nvPr/>
        </p:nvSpPr>
        <p:spPr>
          <a:xfrm>
            <a:off x="627120" y="1646280"/>
            <a:ext cx="109411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ANÁLISES PRELIMINARES – AEAT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, setemb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tângulo 1"/>
          <p:cNvSpPr/>
          <p:nvPr/>
        </p:nvSpPr>
        <p:spPr>
          <a:xfrm>
            <a:off x="407880" y="2048040"/>
            <a:ext cx="1137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rreção da queda no número de acidentes sem CAT em 2016 quando comparado com 2015 de 9,10% para 6,14%, número próximo à redução de contribuinte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da de 7,25% das CATs de trajeto emitidas em 2017 quando comparadas com 2016, fenômeno não observado em outros 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982800" y="8161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tângulo 1"/>
          <p:cNvSpPr/>
          <p:nvPr/>
        </p:nvSpPr>
        <p:spPr>
          <a:xfrm>
            <a:off x="407880" y="1557360"/>
            <a:ext cx="11304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cidentes de trajeto tiveram queda relevante em 2017 quando comparados com 2016, fenômeno antes não ob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bilização dos dados ocorrem normalmente no segundo ano após a ocorrência do evento, quando passam a ser mais fidedig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dução em menores proporções na taxa de incidência de acidentes de trabalho em 2016 e 2017 podem ser reflexo dos acidentes não registrados/reconhecidos em virtude da gr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982800" y="733320"/>
            <a:ext cx="103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REFLEX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1" name="CaixaDeTexto 4"/>
          <p:cNvSpPr/>
          <p:nvPr/>
        </p:nvSpPr>
        <p:spPr>
          <a:xfrm>
            <a:off x="816120" y="692280"/>
            <a:ext cx="106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ubtítulo 2"/>
          <p:cNvSpPr/>
          <p:nvPr/>
        </p:nvSpPr>
        <p:spPr>
          <a:xfrm>
            <a:off x="1295280" y="2276640"/>
            <a:ext cx="98884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ORION SÁVIO SANTOS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Analista Técnico de Polític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orion.oliveir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PAULO CÉSAR ANDRADE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o Seguro Contra Acidentes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SAT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paulo.aalmeid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EVANDRO CO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e Monitoramento de Benefícios por Incapa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MBI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evandro.cott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047600" y="868320"/>
            <a:ext cx="103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QUEM É PROTEGIDO PELO SEGURO CONTRA ACIDENTES DE TRABAL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4"/>
          <p:cNvSpPr/>
          <p:nvPr/>
        </p:nvSpPr>
        <p:spPr>
          <a:xfrm>
            <a:off x="550800" y="2478240"/>
            <a:ext cx="1065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 Domés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ul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047600" y="620640"/>
            <a:ext cx="10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NO BRASIL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1160" y="1197000"/>
          <a:ext cx="10298160" cy="4608360"/>
        </p:xfrm>
        <a:graphic>
          <a:graphicData uri="http://schemas.openxmlformats.org/drawingml/2006/table">
            <a:tbl>
              <a:tblPr/>
              <a:tblGrid>
                <a:gridCol w="1222560"/>
                <a:gridCol w="4070160"/>
                <a:gridCol w="5005440"/>
              </a:tblGrid>
              <a:tr h="65880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identes de Trabalho -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Acidentes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5.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.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7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.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2% (GREVE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.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66" name="CaixaDeTexto 2"/>
          <p:cNvSpPr/>
          <p:nvPr/>
        </p:nvSpPr>
        <p:spPr>
          <a:xfrm>
            <a:off x="911160" y="585792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3"/>
          <p:cNvSpPr/>
          <p:nvPr/>
        </p:nvSpPr>
        <p:spPr>
          <a:xfrm>
            <a:off x="695160" y="6165720"/>
            <a:ext cx="11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Greve dos administrativos de 07/07/2015 a 25/09/2015 e greve dos peritos médicos de 04/09/2015 a 25/01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CONTRIBUINTES DA PREVID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1160" y="1341360"/>
          <a:ext cx="10369440" cy="4896000"/>
        </p:xfrm>
        <a:graphic>
          <a:graphicData uri="http://schemas.openxmlformats.org/drawingml/2006/table">
            <a:tbl>
              <a:tblPr/>
              <a:tblGrid>
                <a:gridCol w="619200"/>
                <a:gridCol w="2154240"/>
                <a:gridCol w="2531880"/>
                <a:gridCol w="2532240"/>
                <a:gridCol w="2531880"/>
              </a:tblGrid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da Previd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empreg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837.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687.8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339.9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625.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635.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656.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52.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624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095.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250.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</a:tbl>
          </a:graphicData>
        </a:graphic>
      </p:graphicFrame>
      <p:sp>
        <p:nvSpPr>
          <p:cNvPr id="270" name="CaixaDeTexto 3"/>
          <p:cNvSpPr/>
          <p:nvPr/>
        </p:nvSpPr>
        <p:spPr>
          <a:xfrm>
            <a:off x="695160" y="63309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39880" y="804960"/>
            <a:ext cx="103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VARIAÇÃO DA TAXA DE INCIDÊNCIA DE ACIDENTE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ixaDeTexto 3"/>
          <p:cNvSpPr/>
          <p:nvPr/>
        </p:nvSpPr>
        <p:spPr>
          <a:xfrm>
            <a:off x="192240" y="60213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Infologo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95200" y="1628640"/>
          <a:ext cx="11096640" cy="4440240"/>
        </p:xfrm>
        <a:graphic>
          <a:graphicData uri="http://schemas.openxmlformats.org/drawingml/2006/table">
            <a:tbl>
              <a:tblPr/>
              <a:tblGrid>
                <a:gridCol w="1359000"/>
                <a:gridCol w="4500360"/>
                <a:gridCol w="5237280"/>
              </a:tblGrid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Incidência de Acidentes de Trabalho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,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74" name="CaixaDeTexto 2"/>
          <p:cNvSpPr/>
          <p:nvPr/>
        </p:nvSpPr>
        <p:spPr>
          <a:xfrm>
            <a:off x="192240" y="6359400"/>
            <a:ext cx="111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úmero de novos casos de acidentes do trabalho registrados e não registrados /número médio anual de vínculos *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tângulo 1"/>
          <p:cNvSpPr/>
          <p:nvPr/>
        </p:nvSpPr>
        <p:spPr>
          <a:xfrm>
            <a:off x="334800" y="1712880"/>
            <a:ext cx="1116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-se que o total de acidentes de trabalho em 2017, embora tenha sofrido redução no número absoluto, representa tendência compatível com os anos anteriores, em especial quando o dado é relativizado pelo número de segurado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ouve atualização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dados de 2016, refletindo nesse ano o resultado do que deixou de ser contabilizado em 2015 em virtude das greves no IN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2"/>
          <p:cNvSpPr/>
          <p:nvPr/>
        </p:nvSpPr>
        <p:spPr>
          <a:xfrm>
            <a:off x="479520" y="5877000"/>
            <a:ext cx="110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EAT 2017, quando publicado, apresenta os dados de 2017 e realiza correção/atualização dos dados de 2016, incorporando as informações que foram inseridas nos bancos de dados após a extração do AEAT 2016, quando então ocorre a estabilização da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82800" y="733320"/>
            <a:ext cx="103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ixaDeTexto 1"/>
          <p:cNvSpPr/>
          <p:nvPr/>
        </p:nvSpPr>
        <p:spPr>
          <a:xfrm>
            <a:off x="263520" y="1801800"/>
            <a:ext cx="113774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siderando a redução do número de contribuintes empregados e a redução histórica no número de acidentes de trabalho, os dados relacionados a 2016 mostram-se coerentes com a série histó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POR TIPO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63520" y="1413000"/>
          <a:ext cx="11593440" cy="4608360"/>
        </p:xfrm>
        <a:graphic>
          <a:graphicData uri="http://schemas.openxmlformats.org/drawingml/2006/table">
            <a:tbl>
              <a:tblPr/>
              <a:tblGrid>
                <a:gridCol w="949320"/>
                <a:gridCol w="1414440"/>
                <a:gridCol w="1433520"/>
                <a:gridCol w="1282680"/>
                <a:gridCol w="1166760"/>
                <a:gridCol w="1292400"/>
                <a:gridCol w="1290600"/>
                <a:gridCol w="1433520"/>
                <a:gridCol w="1330200"/>
              </a:tblGrid>
              <a:tr h="503280">
                <a:tc gridSpan="7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 CAT regist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em CAT</a:t>
                      </a:r>
                      <a:r>
                        <a:rPr b="1" lang="pt-BR" sz="20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í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79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.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.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.6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,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4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.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27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.2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,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7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82" name="CaixaDeTexto 3"/>
          <p:cNvSpPr/>
          <p:nvPr/>
        </p:nvSpPr>
        <p:spPr>
          <a:xfrm>
            <a:off x="19224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ixaDeTexto 2"/>
          <p:cNvSpPr/>
          <p:nvPr/>
        </p:nvSpPr>
        <p:spPr>
          <a:xfrm>
            <a:off x="192240" y="6227640"/>
            <a:ext cx="1185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lui os acidentes identificados sem a emissão de CAT, por meio dos Nexos Téc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EAT 2016 constavam 12.502 CATs de doença para o 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tângulo 1"/>
          <p:cNvSpPr/>
          <p:nvPr/>
        </p:nvSpPr>
        <p:spPr>
          <a:xfrm>
            <a:off x="192240" y="1712880"/>
            <a:ext cx="115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reção do número de CATs de doenças do trabalho emitidas em 2016 fez com que a redução em relação ao ano de 2015 caísse de 18,74% para 9,48%. Tal fato pode ind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ficuldade na identificação do nexo entre a doença e o trabalho e consequente postergação na emissão da C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CAT somente é emitida após o reconhecimento do nexo entre o agravo e o trabalho pelo IN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CATs por doença sofreram redução elevada em 2017 (30,35%), quando comparadas com 2016, sem explicação específica (como ocorreu em 2016). É necessário aguardar as correções que ocorrerão em 2018 para identificar se há tendência de estabilização dos dados somente no segundo ano após a ocorrência do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8-09-24T19:17:35Z</cp:lastPrinted>
  <dcterms:modified xsi:type="dcterms:W3CDTF">2018-09-25T20:22:15Z</dcterms:modified>
  <cp:revision>618</cp:revision>
  <dc:subject/>
  <dc:title>Demografia</dc:title>
</cp:coreProperties>
</file>